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7640" y="386640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352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588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0412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4764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588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0412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58920" y="0"/>
            <a:ext cx="763416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0352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47640" y="386640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0352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588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0412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4764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588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0412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8920" y="0"/>
            <a:ext cx="763416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352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34560" y="764640"/>
            <a:ext cx="576360" cy="609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258920" y="0"/>
            <a:ext cx="7885080" cy="47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080" y="0"/>
            <a:ext cx="682560" cy="469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7e7e7e"/>
                </a:solidFill>
                <a:latin typeface="Arial"/>
              </a:rPr>
              <a:t>Nº  </a:t>
            </a:r>
            <a:fld id="{D90C7705-8063-43E8-9F9D-67C608E816CD}" type="slidenum">
              <a:rPr b="1" lang="es-ES" sz="800" spc="-1" strike="noStrike">
                <a:solidFill>
                  <a:srgbClr val="7e7e7e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08000" y="223920"/>
            <a:ext cx="1611360" cy="21970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6200000">
            <a:off x="-1226520" y="4334040"/>
            <a:ext cx="294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ccccff"/>
                </a:solidFill>
                <a:latin typeface="Verdana"/>
              </a:rPr>
              <a:t>WEB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3790800"/>
            <a:ext cx="4897440" cy="7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cc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2566800" cy="350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521200" y="6453360"/>
            <a:ext cx="5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Verdana"/>
                <a:ea typeface="Times New Roman"/>
              </a:rPr>
              <a:t>Lean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602136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Paco Cas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336699"/>
              </a:buClr>
              <a:buSzPct val="70000"/>
              <a:buFont typeface="Verdan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rics.com/" TargetMode="External"/><Relationship Id="rId2" Type="http://schemas.openxmlformats.org/officeDocument/2006/relationships/hyperlink" Target="http://rubistar.4teachers.org/index.php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860640"/>
            <a:ext cx="78850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Footlight MT Light"/>
              </a:rPr>
              <a:t> </a:t>
            </a:r>
            <a:r>
              <a:rPr b="1" lang="es-ES_tradnl" sz="4000" spc="-1" strike="noStrike">
                <a:solidFill>
                  <a:srgbClr val="000066"/>
                </a:solidFill>
                <a:latin typeface="Footlight MT Light"/>
              </a:rPr>
              <a:t>“</a:t>
            </a:r>
            <a:r>
              <a:rPr b="1" lang="es-ES_tradnl" sz="4000" spc="-1" strike="noStrike">
                <a:solidFill>
                  <a:srgbClr val="000066"/>
                </a:solidFill>
                <a:latin typeface="Footlight MT Light"/>
              </a:rPr>
              <a:t>A AVALIACIÓN NAS WQ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Footlight MT Light"/>
              </a:rPr>
              <a:t>As Rúbricas</a:t>
            </a:r>
            <a:r>
              <a:rPr b="1" lang="es-ES_tradnl" sz="8000" spc="-1" strike="noStrike">
                <a:solidFill>
                  <a:srgbClr val="336699"/>
                </a:solidFill>
                <a:latin typeface="Footlight MT Ligh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27640" y="3068640"/>
            <a:ext cx="2627280" cy="21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5280" y="71280"/>
            <a:ext cx="3241800" cy="3070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-27000"/>
            <a:ext cx="6948360" cy="3384720"/>
          </a:xfrm>
          <a:prstGeom prst="rect">
            <a:avLst/>
          </a:prstGeom>
          <a:solidFill>
            <a:srgbClr val="000066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836640"/>
            <a:ext cx="4824360" cy="20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a449"/>
                </a:solidFill>
                <a:latin typeface="Footlight MT Light"/>
              </a:rPr>
              <a:t>A escola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a449"/>
                </a:solidFill>
                <a:latin typeface="Footlight MT Light"/>
              </a:rPr>
              <a:t> </a:t>
            </a:r>
            <a:r>
              <a:rPr b="1" lang="es-ES_tradnl" sz="7200" spc="-1" strike="noStrike">
                <a:solidFill>
                  <a:srgbClr val="ffa449"/>
                </a:solidFill>
                <a:latin typeface="Footlight MT Light"/>
              </a:rPr>
              <a:t>na rede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83280" y="0"/>
            <a:ext cx="2160720" cy="328464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>
            <a:lum bright="12000"/>
          </a:blip>
          <a:srcRect l="6544" t="22466" r="0" b="0"/>
          <a:stretch/>
        </p:blipFill>
        <p:spPr>
          <a:xfrm>
            <a:off x="6443640" y="-27000"/>
            <a:ext cx="270036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rcRect l="-38743" t="0" r="32546" b="7728"/>
          <a:stretch/>
        </p:blipFill>
        <p:spPr>
          <a:xfrm>
            <a:off x="6084720" y="3068640"/>
            <a:ext cx="75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36360" y="3213000"/>
            <a:ext cx="9180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516720" y="3218040"/>
            <a:ext cx="2627280" cy="210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560" y="2925720"/>
            <a:ext cx="1979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400" spc="-1" strike="noStrike">
                <a:solidFill>
                  <a:srgbClr val="c0c0c0"/>
                </a:solidFill>
                <a:latin typeface="Verdana"/>
              </a:rPr>
              <a:t>CFR de Ferrol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ffff"/>
                </a:solidFill>
                <a:latin typeface="Verdana"/>
              </a:rPr>
              <a:t>As rúbricas analíti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66"/>
                </a:solidFill>
                <a:latin typeface="Verdana"/>
              </a:rPr>
              <a:t>A cambio: moita máis retroalimentación e permite crear un “perfil” das fortalezas e debilidades de cada estudante/grupo. Promoven, polo tanto, unha “avaliación formativa”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ffff"/>
                </a:solidFill>
                <a:latin typeface="Verdana"/>
              </a:rPr>
              <a:t>Deseñar unha rúbr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66"/>
                </a:solidFill>
                <a:latin typeface="Verdana"/>
              </a:rPr>
              <a:t>Ferramentas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Rubric Machin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Rubric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Rubista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993680" y="1844280"/>
            <a:ext cx="7149960" cy="33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ahoma"/>
              </a:rPr>
              <a:t>Graciñas pola 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ahoma"/>
              </a:rPr>
              <a:t>vosa atención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9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-32040"/>
            <a:ext cx="76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A “avaliación integral e formativa“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écnicas habituais: Portfolios – Rúbricas, Estándares…EFQM, ISO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ortfolios: coleccións sistemáticas de mostras de traballo, rexistros de observación…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-27000"/>
            <a:ext cx="7634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 avaliación nas W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s matrices de valoración ou “rúbricas”: sistemas descriptivos de puntuación que guian os procesos en base a graos de consecución de criterios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on especialmente axeitadas cando as tarefas propostas propician respostas diversas, caso das WebQuest.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Verdana"/>
              </a:rPr>
              <a:t>A avaliación nas WQ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000066"/>
                </a:solidFill>
                <a:latin typeface="Verdana"/>
              </a:rPr>
              <a:t>Instrumentos de medición nos que se establecen criterios e estándares por niveis, mediante a disposición de escalas, que permiten determinar a calidade dos traballos executados polo alumnado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-100080"/>
            <a:ext cx="7634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efinición de rúb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 avaliación nas WQ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47640" y="1066680"/>
            <a:ext cx="73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Verdana"/>
              </a:rPr>
              <a:t>A súa estructura_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340000" y="1916280"/>
            <a:ext cx="5256360" cy="3600360"/>
            <a:chOff x="2340000" y="1916280"/>
            <a:chExt cx="5256360" cy="3600360"/>
          </a:xfrm>
        </p:grpSpPr>
        <p:sp>
          <p:nvSpPr>
            <p:cNvPr id="109" name=""/>
            <p:cNvSpPr/>
            <p:nvPr/>
          </p:nvSpPr>
          <p:spPr>
            <a:xfrm>
              <a:off x="2340000" y="2637000"/>
              <a:ext cx="1655640" cy="2808000"/>
            </a:xfrm>
            <a:prstGeom prst="rect">
              <a:avLst/>
            </a:prstGeom>
            <a:solidFill>
              <a:srgbClr val="ffcc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27640" y="2637000"/>
              <a:ext cx="3097080" cy="2879640"/>
            </a:xfrm>
            <a:prstGeom prst="rect">
              <a:avLst/>
            </a:prstGeom>
            <a:solidFill>
              <a:srgbClr val="ffff99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84720" y="1916280"/>
              <a:ext cx="3311640" cy="504720"/>
            </a:xfrm>
            <a:prstGeom prst="rect">
              <a:avLst/>
            </a:prstGeom>
            <a:solidFill>
              <a:srgbClr val="3366ff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1280" y="357336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ASPECTOS A AVALI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84720" y="191628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ESCALA CUAL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2720" y="3645000"/>
              <a:ext cx="16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</a:rPr>
                <a:t>CRITE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 avaliación nas WQ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Vantaxes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Unha avaliación máis obxectiv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Obliga ao profesor a clarificar o seus criterios en términos específico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Mostra ao alumnado que se espera del e como será avaliado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gl-ES" sz="2800" spc="-1" strike="noStrike">
                <a:solidFill>
                  <a:srgbClr val="000066"/>
                </a:solidFill>
                <a:latin typeface="Verdana"/>
              </a:rPr>
              <a:t>O alumnado coñece os criterios para valorar o seu rendement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 avaliación nas WQ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[...]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Non toda rúbrica é boa para avaliar a adquisición de coñecementos e capacidades. Sobre todo cando non están directamente relacionadas coa capacidade que se pretende avaliar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ipoloxía de Rúbri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Holística: avalíase a totalidade de proceso que admiten erros que non alteran o resultado. Permiten menor retroalimentació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Analítica: as diferentes etapas e logo suma resultados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Individual// Grupal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Verdana"/>
              </a:rPr>
              <a:t>As rúbricas  analític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5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gl-ES" sz="3200" spc="-1" strike="noStrike">
                <a:solidFill>
                  <a:srgbClr val="000066"/>
                </a:solidFill>
                <a:latin typeface="Verdana"/>
              </a:rPr>
              <a:t>Para WQ con respostas máis precisas ou situacións nas que só pode haber un(ao sumo dous) resultado posible. Non prima a creatividade. Proceso máis lento, xa que avalía individualmente varias habilidades, aspectos...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1:48:23Z</dcterms:created>
  <dc:creator>xoanca</dc:creator>
  <dc:description/>
  <dc:language>en-US</dc:language>
  <cp:lastModifiedBy>fsonora</cp:lastModifiedBy>
  <dcterms:modified xsi:type="dcterms:W3CDTF">2008-03-03T09:55:35Z</dcterms:modified>
  <cp:revision>45</cp:revision>
  <dc:subject/>
  <dc:title>aventuras na web-lugo</dc:title>
</cp:coreProperties>
</file>